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103EA-6269-4B1A-8CBE-D6A5C72F31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A3FC5-99B2-4778-AFAC-50F7986575F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DD21A-7A00-4DBE-B672-F86485936FE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6D4AA-E6CB-4D79-A7BF-53FC0D17454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73D6F-32FE-4652-A1C1-FE6AFE31B4B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0BA29-DB82-4ABB-88CE-5CCABFD0694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6A376-D1DC-49AD-87E8-EDB414F0675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90F4F-FF18-41A6-A924-1849B1EE8A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03D8-4964-41B7-9BEA-BFAA7AE9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F3F4-D5AF-4022-A749-641808EB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A5F5-6521-49F7-8F75-26CC9F8C1B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1CBB-A63A-4BCE-9AEB-CA4590E7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91C8-FCA7-47BD-87AC-6AF8F1D0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C4A5-EB1B-4A80-96A1-184914B7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964E-5F33-4EA3-92E0-0EF4AA6C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22C47-1D67-4898-BE15-0D52F502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6FACE-D01E-40C5-96A7-BA03EEF3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C91F1-76CE-4CEF-903F-FDD71468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E7D5-6BB3-464A-8E68-8264B9EA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2DB216-6C1A-4D30-BD6D-24CB2DC5D5E3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ACTIVIDAD SÍSMICA 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Y BORDES DE PLA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ctividad sísmica y bordes de pla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971640" y="119700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zonas del mundo con mayor actividad sísmica son aquellas que se sitúan cercanas a los bordes de las placas litosféricas, como se puede observar en el ma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ctividad sísm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1476360" y="2325600"/>
            <a:ext cx="6264360" cy="40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3024360" y="2160720"/>
            <a:ext cx="6119640" cy="43192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ctividad sísmica y bordes de pla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933480" y="127476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ctividad sísmica en España se sitúa sobre todo al sur peninsular. Esto se debe a que en esta zona las placas euroasiática y africana entran en conta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ctividad sísmica en Españ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900000" y="2421000"/>
            <a:ext cx="302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hay algo de actividad sísmica e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noreste del país debido al choque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subplaca ibérica con Eur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0 CuadroTexto"/>
          <p:cNvSpPr/>
          <p:nvPr/>
        </p:nvSpPr>
        <p:spPr>
          <a:xfrm>
            <a:off x="6516720" y="4437000"/>
            <a:ext cx="23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recuencia e intensidad de la actividad sísm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1 CuadroTexto"/>
          <p:cNvSpPr/>
          <p:nvPr/>
        </p:nvSpPr>
        <p:spPr>
          <a:xfrm>
            <a:off x="6732720" y="5732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12 CuadroTexto"/>
          <p:cNvSpPr/>
          <p:nvPr/>
        </p:nvSpPr>
        <p:spPr>
          <a:xfrm>
            <a:off x="7667640" y="5732640"/>
            <a:ext cx="11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27T08:38:34Z</dcterms:modified>
  <cp:revision>45</cp:revision>
  <dc:subject/>
  <dc:title>Diapositiva 1</dc:title>
</cp:coreProperties>
</file>